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74AC7-09F7-44A6-9AD7-7E25D03D9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4A636-BDA6-4061-8DAF-C09EDAEFB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2A675-C0BB-4426-9538-DF76E82B7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01342-AF59-4A44-8B51-CF932A6F2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65271-DB3A-4775-BBD2-79392704F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7CF0E-3B00-4265-A0F2-0C9526107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E6651-0D8A-45AD-87E3-793ACDF79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BAE20-FA2E-4E51-B3AA-569DAD2A8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B2AB6-F171-42ED-8AEC-3224BCA36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E946B-A2CC-45F7-947D-7523E1CF3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194E7-7C58-4970-B7D7-D3D92DA02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ACB59-19B3-4203-9D19-8280AA1B2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A173-84A6-4F66-8AD3-13C245A6412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onlinegeography.wikispaces.co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Year 11 Cleethorpes coursework</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ata analysis – 22/10/09</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ke each site for the environmental survey  - describe and explain the answ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scribe the results of the questionnai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each prediction you have made describe what the results show and how they relate to the hypothe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swer th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valuation – 23/10/09</a:t>
            </a:r>
            <a:endParaRPr b="0" lang="en-US" sz="4400" spc="-1" strike="noStrike">
              <a:solidFill>
                <a:srgbClr val="000000"/>
              </a:solidFill>
              <a:latin typeface="Calibri"/>
            </a:endParaRPr>
          </a:p>
        </p:txBody>
      </p:sp>
      <p:pic>
        <p:nvPicPr>
          <p:cNvPr id="6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introduction</a:t>
            </a:r>
            <a:endParaRPr b="0" lang="en-US" sz="4400" spc="-1" strike="noStrike">
              <a:solidFill>
                <a:srgbClr val="000000"/>
              </a:solidFill>
              <a:latin typeface="Calibri"/>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ection 1: Where is Cleethorpes/What is Cleethorpes like?</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thorough description of Cleethorpes in terms of i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pecific location in the U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urrounding towns and cit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s specific site facto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ame of coun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hysical geography – rivers, relief, coastlin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ragraph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ection 1: Where is Cleethorpes/What is Cleethorpes like?</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scribe what the town of Cleethorpes is like in terms o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istory of the town – Tour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pul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in roads/transport connections – how do these help with touris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acilities/servic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3 – 3 way map</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a:t>
            </a:r>
            <a:r>
              <a:rPr b="0" lang="en-GB" sz="3000" spc="-1" strike="noStrike" baseline="30000">
                <a:solidFill>
                  <a:srgbClr val="000000"/>
                </a:solidFill>
                <a:latin typeface="Calibri"/>
              </a:rPr>
              <a:t>st</a:t>
            </a:r>
            <a:r>
              <a:rPr b="0" lang="en-GB" sz="3000" spc="-1" strike="noStrike">
                <a:solidFill>
                  <a:srgbClr val="000000"/>
                </a:solidFill>
                <a:latin typeface="Calibri"/>
              </a:rPr>
              <a:t> Map: On the A3 sheet I have given is a map of the UK. You should mark on key urban areas e.g Hull, London, Manchester and Cleethorp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a:t>
            </a:r>
            <a:r>
              <a:rPr b="0" lang="en-GB" sz="3000" spc="-1" strike="noStrike" baseline="30000">
                <a:solidFill>
                  <a:srgbClr val="000000"/>
                </a:solidFill>
                <a:latin typeface="Calibri"/>
              </a:rPr>
              <a:t>nd</a:t>
            </a:r>
            <a:r>
              <a:rPr b="0" lang="en-GB" sz="3000" spc="-1" strike="noStrike">
                <a:solidFill>
                  <a:srgbClr val="000000"/>
                </a:solidFill>
                <a:latin typeface="Calibri"/>
              </a:rPr>
              <a:t> Map: A regional map of the Cleethorpes area showing Leeds down to Lincol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a:t>
            </a:r>
            <a:r>
              <a:rPr b="0" lang="en-GB" sz="3000" spc="-1" strike="noStrike" baseline="30000">
                <a:solidFill>
                  <a:srgbClr val="000000"/>
                </a:solidFill>
                <a:latin typeface="Calibri"/>
              </a:rPr>
              <a:t>rd</a:t>
            </a:r>
            <a:r>
              <a:rPr b="0" lang="en-GB" sz="3000" spc="-1" strike="noStrike">
                <a:solidFill>
                  <a:srgbClr val="000000"/>
                </a:solidFill>
                <a:latin typeface="Calibri"/>
              </a:rPr>
              <a:t> Map: A local scale map showing Cleethorpes in more detai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You must have a title: 3-way map clearly locating Cleethorpes at a national, regional and local scal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You must have a scale bar for each map</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ims and Objective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aim is to answer the hypothe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objectives are the predi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ypothesis and prediction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is your hypothesis: The people living in the south of Cleethorpes will have a higher quality of life than those in the nort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hypothesis will be made up of a number of predictions (1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xample predictions</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ypothesis: The people living in the south of Cleethorpes will have a higher quality of life than those in the north.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the south there will be more detached hou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the south most people will own their own hou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the south there will be less vandalism than in the north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the north there will be more terraced hou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the south most houses will 3 bedrooms or m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the north, very few houses will ga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ost people in the south will have holidays abro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adline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inal deadline – 23/10/09</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Coursework will be marked, assigned a preliminary grade and suggestions for improvements will be mad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You will then be given your coursework back and in your own time/time after school you can improve your coursework</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hould you fail to meet the final deadline, after school detentions will issued every week until you have caught up to the sufficient standar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own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ost people in central will have cars aged between 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the north there will be very little open spa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quality of life?</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can we measure quality of lif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need to state what quality of life i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need to state what criteria you are going to use to determine the areas quality of lif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theory</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Your coursework will be based on a settlement so you will need to talk about the theories you have learnt about in this uni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re are various land use zones recognised in MEDC settlements:</a:t>
            </a:r>
            <a:endParaRPr b="0" lang="en-US" sz="3000" spc="-1" strike="noStrike">
              <a:solidFill>
                <a:srgbClr val="000000"/>
              </a:solidFill>
              <a:latin typeface="Calibri"/>
            </a:endParaRPr>
          </a:p>
          <a:p>
            <a:pPr lvl="1" marL="914400" indent="-514440">
              <a:lnSpc>
                <a:spcPct val="90000"/>
              </a:lnSpc>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entral Business District (CBD)</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Zone of transition (Industry)</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ner city (Lower class residential)</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ner suburbs (Middle class residential)</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uter suburbs (rural-urban fringe)</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 suggest you lay it out like this...</a:t>
            </a:r>
            <a:endParaRPr b="0" lang="en-US" sz="4400" spc="-1" strike="noStrike">
              <a:solidFill>
                <a:srgbClr val="000000"/>
              </a:solidFill>
              <a:latin typeface="Calibri"/>
            </a:endParaRPr>
          </a:p>
        </p:txBody>
      </p:sp>
      <p:graphicFrame>
        <p:nvGraphicFramePr>
          <p:cNvPr id="86" name=""/>
          <p:cNvGraphicFramePr/>
          <p:nvPr/>
        </p:nvGraphicFramePr>
        <p:xfrm>
          <a:off x="1523880" y="1397160"/>
          <a:ext cx="6096240" cy="3474720"/>
        </p:xfrm>
        <a:graphic>
          <a:graphicData uri="http://schemas.openxmlformats.org/drawingml/2006/table">
            <a:tbl>
              <a:tblPr/>
              <a:tblGrid>
                <a:gridCol w="2032200"/>
                <a:gridCol w="2031840"/>
                <a:gridCol w="20322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Land use zon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haracteristic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xamples in Cleethorp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3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BD</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You must give 5 characteristics for each urban zone. This includes types of housing, facilities and ameniti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You will be given a photocopy of an OS map. You will have to mark on the location of the zones on map. Write down the grid reference in this box and the name of the road</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models</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need a diagram of the Burges and Hoyt mode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need to write down description of </a:t>
            </a:r>
            <a:r>
              <a:rPr b="1" lang="en-GB" sz="3200" spc="-1" strike="noStrike">
                <a:solidFill>
                  <a:srgbClr val="000000"/>
                </a:solidFill>
                <a:latin typeface="Calibri"/>
              </a:rPr>
              <a:t>both </a:t>
            </a:r>
            <a:r>
              <a:rPr b="0" lang="en-GB" sz="3200" spc="-1" strike="noStrike">
                <a:solidFill>
                  <a:srgbClr val="000000"/>
                </a:solidFill>
                <a:latin typeface="Calibri"/>
              </a:rPr>
              <a:t>mode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roperty Research</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here are five main housing types in the Greater Grimsby are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tach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mi-detach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errac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nga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lats</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or each type of housing you have a picture, a description of the housing type and two examples of where you might find the different types of roads in Cleethorpes – road names and pric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leethorpes Coordinates survey</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will need an OS map of Cleethorp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each of the three wards you will look at in Cleethorpes you will need to identify examples of:</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menit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pen spa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dern hous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erraced hous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ld part of Cleethorp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leethorpes Coordinates survey</a:t>
            </a:r>
            <a:endParaRPr b="0" lang="en-US" sz="4400" spc="-1" strike="noStrike">
              <a:solidFill>
                <a:srgbClr val="000000"/>
              </a:solidFill>
              <a:latin typeface="Calibri"/>
            </a:endParaRPr>
          </a:p>
        </p:txBody>
      </p:sp>
      <p:graphicFrame>
        <p:nvGraphicFramePr>
          <p:cNvPr id="94" name=""/>
          <p:cNvGraphicFramePr/>
          <p:nvPr/>
        </p:nvGraphicFramePr>
        <p:xfrm>
          <a:off x="1523880" y="1397160"/>
          <a:ext cx="6096240" cy="4770360"/>
        </p:xfrm>
        <a:graphic>
          <a:graphicData uri="http://schemas.openxmlformats.org/drawingml/2006/table">
            <a:tbl>
              <a:tblPr/>
              <a:tblGrid>
                <a:gridCol w="1524240"/>
                <a:gridCol w="1523880"/>
                <a:gridCol w="1523880"/>
                <a:gridCol w="15242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Land us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rth</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entral</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meniti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ter the example e.g. School and the 6 figure grid reference e.g. 349673</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pen spac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dern hous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erraced hous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ld part of Cleethorp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ction deadline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tion – 11/9/0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thodology – 25/9/0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ata presentation – 15/9/0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ata analysis – 22/10/0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valuation and final deadline – 23/10/0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ailure to meet the deadlines will result in after school detentions being issued till you have finished the required s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elp session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fter school on Tuesdays there will be help sessions which will go on till 16:3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r. McCrae and myself aim to be at each s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 is incredibly important that you attend the sessions should you need help as coursework is worth 25% of your final gra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ew website</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onlinegeography.wikispaces.c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also contains all the materials you will need to help you rev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is a coursework section where you can find hints and all the information that I have given y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is to used in conjunction with your revision guide(issued later) and exercise 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should be in each section?</a:t>
            </a:r>
            <a:endParaRPr b="0" lang="en-US" sz="4400" spc="-1" strike="noStrike">
              <a:solidFill>
                <a:srgbClr val="000000"/>
              </a:solidFill>
              <a:latin typeface="Calibri"/>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duction – 11/9/09</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escription of Cleethorp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locate Cleethorpes  - map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3-way map</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hypothesi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predict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efine quality of lif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he theory</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scribe the Burgess and Hoyt model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characteristics of different urban zon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perty guid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o-ordinates surve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ology – 25/9/09</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asic tab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map showing the location of the 3 wards, 6 sites and survey stree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etailed write up – should include some photo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10 predictions with data collection method identifie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riginality – your own surve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otographs of survey si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ata presentation – 15/9/09</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lly ch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ar graphs for each sit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mpound bar grap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ing the maps of central, north and south could use a variety of graphs to show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using type per ward using pie charts or bar char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edrooms and pie char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hotographs – graphs on top of the photo</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3:27:11Z</dcterms:created>
  <dc:creator>Chris</dc:creator>
  <dc:description/>
  <dc:language>en-US</dc:language>
  <cp:lastModifiedBy>Chris</cp:lastModifiedBy>
  <dcterms:modified xsi:type="dcterms:W3CDTF">2009-08-31T13:44:55Z</dcterms:modified>
  <cp:revision>2</cp:revision>
  <dc:subject/>
  <dc:title>Year 11 Cleethorpes coursework</dc:title>
</cp:coreProperties>
</file>